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wmf" ContentType="image/x-wmf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09B74D-A81A-4CDD-8C25-BDCB46DE954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A0ED7A-2A86-4F22-9A6C-B1D477C3E93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AEF55D-DDA0-44E7-AF7A-DEA0289CE3B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442-6200-4519-ADFE-93939E8D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73F-B03A-4D2A-81E5-834875A2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FB5-BD66-4C35-ACA2-EDBB63E2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0EE1-3383-4CE3-9443-6C8B19E2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3687-7D1B-4746-BAF7-C820E972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1470-73DD-4395-993B-1471C099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2299-B0F2-42DC-954F-F6B7380F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F955-F3F8-4774-90C6-9EF39504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E1AA-36FE-4057-B8B7-BED1F5AE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3414-9823-4F42-943A-56AAE187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F52A-6B4F-4A71-8FF2-7C9E3110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1C6-8E16-422D-B5F4-200CA342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F2D8-49C7-410E-8AA2-7E198FE3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F1E3-7069-4FB0-B650-DC8010BB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7E45-F37E-46CF-BADE-6BF44701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41E9-89A4-4256-894C-4554E180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0C8E-F2A4-4F31-9D02-794C8E7A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E7BD-E3A3-476B-9FAC-37404D08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DC5CD-020C-4426-950D-E51572CD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B1ACA-8E10-4A59-8A07-4E9FC232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1DDCC-1E6D-4368-B639-0B07CBEE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30B3-F7B4-4770-A33C-532EDC43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D0F-03FC-43D4-908F-9F4ECBCA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FB4BF-EF8E-4BDC-8354-00F3E9CB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1A90-941D-4DBD-8619-C37B0586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2CC0F-C057-4AF9-A76E-3C6870D7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6AFE-80C9-41FD-87DF-1B60CF55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0505-FBC1-4943-999C-F14F2A2B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DF827-FF25-442D-BF3B-2643119E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B5963-49F9-4D1C-9879-CE097371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874A2-6804-4493-A78E-DA337AAB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EC783-4360-4A36-93C3-804FFA9F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99BA1-374C-48E1-8F2C-158A1116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2CD-30AF-4554-90BF-99586EAE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A90E9-0A16-4877-B666-C1794CDB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C9206-AF21-41B1-8773-21F94605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1A7EC-57A0-427F-8877-CB11E999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5798F-A741-42A3-8C94-56BCC2FE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5EEC3-2489-4453-8B8C-5F581EA6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4B140-EEDC-4618-9320-8D85BB98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D0267-B253-4639-9C98-38A66FA0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CEDC4-9D8A-4E35-B4C9-A5B28DCF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165DB-A96C-416A-8F89-7C487364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B54F7-5AA5-4807-B6C0-94880827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0FA-9455-4F4B-BEEB-318C4176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C4A4A-C392-4294-BD54-3E95F083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A7877-6F5E-4113-9ABA-F307116B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DD0AA-8DED-4FCE-8BE9-372C9627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77B87-8320-4E20-B1AC-39EEC746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8CBB1-FDB8-45AA-8A86-F4E61D7F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BBC2D-FB77-4D06-A68B-07E4BE54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A9CBE-863B-4B38-96FB-E26095B9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8B54E-2183-4FBC-9827-B181066A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BB500-7196-4365-84AA-238CB39D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7C311-722B-433C-8F82-64D9D941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D42-62A6-4004-A9FA-835A770A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B504A-D5FD-431E-A4A4-F3FFF409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254A4-3B59-4C69-8869-0639365C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19E8F-7C7D-4073-B019-CB40D329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3AB04-A874-49E1-9809-A7523EB8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FC012-9064-439D-8571-24467539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37115-323E-4887-9C8A-BD0DC46E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C47E9-B4B9-48B0-B361-C9E21E98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B7D77-C33D-449C-8AA0-91E6D93E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F069B-3370-4F38-B91C-1CE74D1A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B6E48-E36B-4E6D-B0D8-0B301409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874-91A9-4894-B6C0-73173ADF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531AB-C82C-48E2-9321-D2D2F0D5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866AA-3B09-4F44-96EE-5FC87995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BCD3F-0777-4551-9E63-AF893165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2D7AF-6427-4760-A687-288E58E1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5B742-5181-491F-A22E-C0BFBC8C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1CB06-73BA-4E2C-A568-227F8E87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F0E8C-44CB-421F-8CE0-0D0E0205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61754-5EA9-4874-AE95-047F2EA1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17548-ED3A-4493-A515-6C666E10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66F31-665E-4EF1-81DC-A07ABD4F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813-A549-4B79-9F68-474604E1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7E540-B89E-401D-9FDB-F7C795C5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AC408-B660-4E10-95D7-5B17F32B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A6353-D2B0-4EA0-862D-A5C0FFC5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A69BA-F660-4ECF-A3AD-5079ED08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CC30A-FEA4-4BB8-863E-FC235BAF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507DD-EDDA-4438-A344-BA6B3C62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65D0E-D649-4694-9709-3C69FB37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0A0B3-DC3A-4753-A096-B7BC9318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9202D-6A22-4B44-81E4-9126676B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26E4B-1B16-4FC6-A583-1A029C00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848-E436-4513-AC64-57CF37DC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1EFBF-5717-40CA-A817-EF15E109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B5B5B-4258-4693-BF93-A62B7E50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4EFE4-E951-421F-ACF7-A1C2EB23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9E2CF-5318-4A4F-805B-BADF971A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37D77-F709-42E5-8847-A15B8922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80B73-F3C2-446B-8615-42E2AC6B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2B392-C8D8-4756-A2AA-FE7E690B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5A9B-864D-4F38-91D2-AF471CA36E73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AB09-A67D-435C-A7F9-5F7459B8E07E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309A-EF1A-49D7-BFAB-D897D449C9B9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E608-F5B5-42C2-AB0A-1783E3E7416C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060F-9C63-41B7-AC94-A3082012E25C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27FE-7C52-4586-A15E-DD109328D2EE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60CA-1AB9-42F1-A728-1CB385DB25ED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8443-013B-427E-BB98-EAD74781890A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cess Orchestr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Advanced Business Process Managemen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Barbara Re, Ph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332000" y="43657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bpm-book-weske_080.png"/>
          <p:cNvPicPr/>
          <p:nvPr/>
        </p:nvPicPr>
        <p:blipFill>
          <a:blip r:embed="rId1"/>
          <a:srcRect l="0" t="0" r="0" b="8236"/>
          <a:stretch/>
        </p:blipFill>
        <p:spPr>
          <a:xfrm>
            <a:off x="1042920" y="1197000"/>
            <a:ext cx="7070760" cy="50338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Or split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AD42-D5E9-44F9-9E47-E83F5EF4DBAD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" descr="bpm-book-weske_081.png"/>
          <p:cNvPicPr/>
          <p:nvPr/>
        </p:nvPicPr>
        <p:blipFill>
          <a:blip r:embed="rId1"/>
          <a:srcRect l="0" t="0" r="0" b="6149"/>
          <a:stretch/>
        </p:blipFill>
        <p:spPr>
          <a:xfrm>
            <a:off x="1763640" y="1197000"/>
            <a:ext cx="5602320" cy="51483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Or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04BC-5051-4E39-99DF-4AC990BA89D3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" descr="bpm-book-weske_082.png"/>
          <p:cNvPicPr/>
          <p:nvPr/>
        </p:nvPicPr>
        <p:blipFill>
          <a:blip r:embed="rId1"/>
          <a:srcRect l="0" t="0" r="0" b="10024"/>
          <a:stretch/>
        </p:blipFill>
        <p:spPr>
          <a:xfrm>
            <a:off x="372960" y="1628640"/>
            <a:ext cx="8447040" cy="40276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ulti-merge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ACA3-E3A0-4F73-94C1-380CCE498E73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CasellaDiTesto 1"/>
          <p:cNvSpPr/>
          <p:nvPr/>
        </p:nvSpPr>
        <p:spPr>
          <a:xfrm>
            <a:off x="655200" y="5805360"/>
            <a:ext cx="75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he activity following the merge is started for every activation of every incoming bran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" descr="bpm-book-weske_083.png"/>
          <p:cNvPicPr/>
          <p:nvPr/>
        </p:nvPicPr>
        <p:blipFill>
          <a:blip r:embed="rId1"/>
          <a:stretch/>
        </p:blipFill>
        <p:spPr>
          <a:xfrm>
            <a:off x="755640" y="1268280"/>
            <a:ext cx="7772400" cy="2934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ulti-merge 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54D7-ED9D-49D4-ACAD-D5F3D9E8CD44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1" descr="bpm-book-weske_084.png"/>
          <p:cNvPicPr/>
          <p:nvPr/>
        </p:nvPicPr>
        <p:blipFill>
          <a:blip r:embed="rId2"/>
          <a:srcRect l="0" t="0" r="9649" b="14138"/>
          <a:stretch/>
        </p:blipFill>
        <p:spPr>
          <a:xfrm>
            <a:off x="755640" y="3429000"/>
            <a:ext cx="7272360" cy="2922480"/>
          </a:xfrm>
          <a:prstGeom prst="rect">
            <a:avLst/>
          </a:prstGeom>
          <a:ln w="0">
            <a:noFill/>
          </a:ln>
        </p:spPr>
      </p:pic>
      <p:sp>
        <p:nvSpPr>
          <p:cNvPr id="413" name="CasellaDiTesto 5"/>
          <p:cNvSpPr/>
          <p:nvPr/>
        </p:nvSpPr>
        <p:spPr>
          <a:xfrm>
            <a:off x="216720" y="1341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cess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CasellaDiTesto 6"/>
          <p:cNvSpPr/>
          <p:nvPr/>
        </p:nvSpPr>
        <p:spPr>
          <a:xfrm>
            <a:off x="246600" y="37893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vent Dia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bpm-book-weske_085.png"/>
          <p:cNvPicPr/>
          <p:nvPr/>
        </p:nvPicPr>
        <p:blipFill>
          <a:blip r:embed="rId1"/>
          <a:stretch/>
        </p:blipFill>
        <p:spPr>
          <a:xfrm>
            <a:off x="685800" y="1701720"/>
            <a:ext cx="7772400" cy="34545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Discriminator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C163-D979-457C-8188-CEFE23863AB2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ttangolo 4"/>
          <p:cNvSpPr/>
          <p:nvPr/>
        </p:nvSpPr>
        <p:spPr>
          <a:xfrm>
            <a:off x="826920" y="4797360"/>
            <a:ext cx="70581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bpm-book-weske_086.png"/>
          <p:cNvPicPr/>
          <p:nvPr/>
        </p:nvPicPr>
        <p:blipFill>
          <a:blip r:embed="rId1"/>
          <a:stretch/>
        </p:blipFill>
        <p:spPr>
          <a:xfrm>
            <a:off x="611280" y="1341360"/>
            <a:ext cx="8281800" cy="244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Discriminator 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CFF8-254E-460D-998A-A7264E78AD67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CasellaDiTesto 4"/>
          <p:cNvSpPr/>
          <p:nvPr/>
        </p:nvSpPr>
        <p:spPr>
          <a:xfrm>
            <a:off x="216720" y="1341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cess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CasellaDiTesto 5"/>
          <p:cNvSpPr/>
          <p:nvPr/>
        </p:nvSpPr>
        <p:spPr>
          <a:xfrm>
            <a:off x="246600" y="37893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vent Dia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1" descr="bpm-book-weske_087.png"/>
          <p:cNvPicPr/>
          <p:nvPr/>
        </p:nvPicPr>
        <p:blipFill>
          <a:blip r:embed="rId2"/>
          <a:srcRect l="0" t="0" r="9130" b="14052"/>
          <a:stretch/>
        </p:blipFill>
        <p:spPr>
          <a:xfrm>
            <a:off x="2124000" y="3500280"/>
            <a:ext cx="61088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" descr="bpm-book-weske_088.png"/>
          <p:cNvPicPr/>
          <p:nvPr/>
        </p:nvPicPr>
        <p:blipFill>
          <a:blip r:embed="rId1"/>
          <a:stretch/>
        </p:blipFill>
        <p:spPr>
          <a:xfrm>
            <a:off x="179280" y="1628640"/>
            <a:ext cx="8650440" cy="41864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N-out-of-M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A196-02F1-43CD-82B5-8A3EB5323D33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Rettangolo 4"/>
          <p:cNvSpPr/>
          <p:nvPr/>
        </p:nvSpPr>
        <p:spPr>
          <a:xfrm>
            <a:off x="1042920" y="5300640"/>
            <a:ext cx="70581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bpm-book-weske_089.png"/>
          <p:cNvPicPr/>
          <p:nvPr/>
        </p:nvPicPr>
        <p:blipFill>
          <a:blip r:embed="rId1"/>
          <a:stretch/>
        </p:blipFill>
        <p:spPr>
          <a:xfrm>
            <a:off x="250920" y="2060640"/>
            <a:ext cx="8661240" cy="326556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rbitrary cycles pattern – graphical represent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418A-5B7F-410C-AC1D-6D1C93382D44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Rettangolo 4"/>
          <p:cNvSpPr/>
          <p:nvPr/>
        </p:nvSpPr>
        <p:spPr>
          <a:xfrm>
            <a:off x="611280" y="414972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" descr="bpm-book-weske_090.png"/>
          <p:cNvPicPr/>
          <p:nvPr/>
        </p:nvPicPr>
        <p:blipFill>
          <a:blip r:embed="rId1"/>
          <a:stretch/>
        </p:blipFill>
        <p:spPr>
          <a:xfrm>
            <a:off x="685800" y="1770120"/>
            <a:ext cx="7772400" cy="33163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rbitrary cycles example – using multiple merge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0811-AB9C-4B85-9680-FDC5732F82B7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ttangolo 4"/>
          <p:cNvSpPr/>
          <p:nvPr/>
        </p:nvSpPr>
        <p:spPr>
          <a:xfrm>
            <a:off x="755640" y="458136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" descr="bpm-book-weske_092.png"/>
          <p:cNvPicPr/>
          <p:nvPr/>
        </p:nvPicPr>
        <p:blipFill>
          <a:blip r:embed="rId1"/>
          <a:stretch/>
        </p:blipFill>
        <p:spPr>
          <a:xfrm>
            <a:off x="15840" y="1916280"/>
            <a:ext cx="9124920" cy="396072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ample for multiple instances with a priori design time knowledg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CBBB-551F-488C-9ADE-B5988C79D404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ttangolo 4"/>
          <p:cNvSpPr/>
          <p:nvPr/>
        </p:nvSpPr>
        <p:spPr>
          <a:xfrm>
            <a:off x="179280" y="5373720"/>
            <a:ext cx="8353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trol flow pattern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flow patterns 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… </a:t>
            </a:r>
            <a:r>
              <a:rPr b="0" lang="en-US" sz="19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provide a way for expressing process behaviour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are </a:t>
            </a:r>
            <a:r>
              <a:rPr b="1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independent of concrete process languages</a:t>
            </a:r>
            <a:r>
              <a:rPr b="0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, so that each pattern can be expressed in </a:t>
            </a:r>
            <a:r>
              <a:rPr b="1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different process languages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flow patterns can also be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used to compare the expressiveness of process languag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Basic control flow patterns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clude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sequence, and split,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 and join,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 well as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 exclusive or split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 exclusive or jo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se control flow patterns are supported by virtually any process meta-mod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flow patterns are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defined at the process model level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d their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execution semantics is applies at process instanc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4728-AE8E-4EB9-A6B2-EEE813CCB01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" descr="bpm-book-weske_093.png"/>
          <p:cNvPicPr/>
          <p:nvPr/>
        </p:nvPicPr>
        <p:blipFill>
          <a:blip r:embed="rId1"/>
          <a:srcRect l="0" t="0" r="0" b="12646"/>
          <a:stretch/>
        </p:blipFill>
        <p:spPr>
          <a:xfrm>
            <a:off x="250920" y="1484280"/>
            <a:ext cx="8656560" cy="39006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464653"/>
                </a:solidFill>
                <a:latin typeface="Bookman Old Style"/>
              </a:rPr>
              <a:t>Example for multiple instances without a priori run time knowledge patter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A396-D79F-4CD6-A17C-29F675C0C10E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" descr="bpm-book-weske_094.png"/>
          <p:cNvPicPr/>
          <p:nvPr/>
        </p:nvPicPr>
        <p:blipFill>
          <a:blip r:embed="rId1"/>
          <a:srcRect l="0" t="0" r="0" b="15552"/>
          <a:stretch/>
        </p:blipFill>
        <p:spPr>
          <a:xfrm>
            <a:off x="0" y="1557360"/>
            <a:ext cx="9132840" cy="43862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64653"/>
                </a:solidFill>
                <a:latin typeface="Bookman Old Style"/>
              </a:rPr>
              <a:t>Multiple instance without a priori run time knowledge pattern, including management task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E12E-FD9A-410F-AB86-E6591F541B6C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1" descr="bpm-book-weske_096.png"/>
          <p:cNvPicPr/>
          <p:nvPr/>
        </p:nvPicPr>
        <p:blipFill>
          <a:blip r:embed="rId1"/>
          <a:srcRect l="0" t="0" r="0" b="10930"/>
          <a:stretch/>
        </p:blipFill>
        <p:spPr>
          <a:xfrm>
            <a:off x="684360" y="1389240"/>
            <a:ext cx="7772400" cy="48481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equential execution without a priori design time knowle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6527-D3B9-43D7-A2D1-1EA4764FE6ED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Other types of patter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Exception Hand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Presen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0E97-A3BB-432B-A4BF-CB34048C503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ore o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http://www.workflowpatterns.com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6D58-18EC-4BF8-96D1-3519FA6DB0FA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6" name="Immagine 4" descr="Schermata 2013-10-05 a 12.13.25.png"/>
          <p:cNvPicPr/>
          <p:nvPr/>
        </p:nvPicPr>
        <p:blipFill>
          <a:blip r:embed="rId1"/>
          <a:stretch/>
        </p:blipFill>
        <p:spPr>
          <a:xfrm>
            <a:off x="1547640" y="1341360"/>
            <a:ext cx="59835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A6A3-CCC5-452D-B4CE-038F79D3948F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8" name="Object 2"/>
          <p:cNvGraphicFramePr/>
          <p:nvPr/>
        </p:nvGraphicFramePr>
        <p:xfrm>
          <a:off x="1371600" y="17524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Text Box 3"/>
          <p:cNvSpPr/>
          <p:nvPr/>
        </p:nvSpPr>
        <p:spPr>
          <a:xfrm>
            <a:off x="3731760" y="320040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" descr="bpm-book-weske_073.png"/>
          <p:cNvPicPr/>
          <p:nvPr/>
        </p:nvPicPr>
        <p:blipFill>
          <a:blip r:embed="rId1"/>
          <a:stretch/>
        </p:blipFill>
        <p:spPr>
          <a:xfrm>
            <a:off x="539640" y="2060640"/>
            <a:ext cx="8256600" cy="3676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tate transition diagram for activity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ED20-3625-4F69-92EB-D216A3673C71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ttangolo 4"/>
          <p:cNvSpPr/>
          <p:nvPr/>
        </p:nvSpPr>
        <p:spPr>
          <a:xfrm>
            <a:off x="611280" y="515772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bpm-book-weske_074.png"/>
          <p:cNvPicPr/>
          <p:nvPr/>
        </p:nvPicPr>
        <p:blipFill>
          <a:blip r:embed="rId1"/>
          <a:stretch/>
        </p:blipFill>
        <p:spPr>
          <a:xfrm>
            <a:off x="900000" y="1628640"/>
            <a:ext cx="7772400" cy="42735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equence pattern, with event diagram process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6D0E-B46E-4A7A-8A75-1A06E24BED07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ttangolo 4"/>
          <p:cNvSpPr/>
          <p:nvPr/>
        </p:nvSpPr>
        <p:spPr>
          <a:xfrm>
            <a:off x="900000" y="5373720"/>
            <a:ext cx="7056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" descr="bpm-book-weske_075.png"/>
          <p:cNvPicPr/>
          <p:nvPr/>
        </p:nvPicPr>
        <p:blipFill>
          <a:blip r:embed="rId1"/>
          <a:stretch/>
        </p:blipFill>
        <p:spPr>
          <a:xfrm>
            <a:off x="685800" y="1976400"/>
            <a:ext cx="7772400" cy="29034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equence pattern as part of loo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988B-67B1-4BB5-B9E2-C813B8BA9847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ttangolo 4"/>
          <p:cNvSpPr/>
          <p:nvPr/>
        </p:nvSpPr>
        <p:spPr>
          <a:xfrm>
            <a:off x="324000" y="4292640"/>
            <a:ext cx="7632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bpm-book-weske_076.png"/>
          <p:cNvPicPr/>
          <p:nvPr/>
        </p:nvPicPr>
        <p:blipFill>
          <a:blip r:embed="rId1"/>
          <a:stretch/>
        </p:blipFill>
        <p:spPr>
          <a:xfrm>
            <a:off x="250920" y="1844640"/>
            <a:ext cx="8434440" cy="33400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nd-split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8B1D-5F96-47EC-BD2D-BD1DDF707CD2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ttangolo 4"/>
          <p:cNvSpPr/>
          <p:nvPr/>
        </p:nvSpPr>
        <p:spPr>
          <a:xfrm>
            <a:off x="611280" y="4508640"/>
            <a:ext cx="7056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" descr="bpm-book-weske_077.png"/>
          <p:cNvPicPr/>
          <p:nvPr/>
        </p:nvPicPr>
        <p:blipFill>
          <a:blip r:embed="rId1"/>
          <a:stretch/>
        </p:blipFill>
        <p:spPr>
          <a:xfrm>
            <a:off x="388800" y="2060640"/>
            <a:ext cx="8755200" cy="35290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nd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8716-81AA-44D4-B487-A2E5250B161F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Rettangolo 4"/>
          <p:cNvSpPr/>
          <p:nvPr/>
        </p:nvSpPr>
        <p:spPr>
          <a:xfrm>
            <a:off x="900000" y="5157720"/>
            <a:ext cx="7056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bpm-book-weske_078.png"/>
          <p:cNvPicPr/>
          <p:nvPr/>
        </p:nvPicPr>
        <p:blipFill>
          <a:blip r:embed="rId1"/>
          <a:stretch/>
        </p:blipFill>
        <p:spPr>
          <a:xfrm>
            <a:off x="108000" y="1341360"/>
            <a:ext cx="8891640" cy="4103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Xor split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177B-95E9-4A21-ABF6-3AD0F5F6E838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ttangolo 4"/>
          <p:cNvSpPr/>
          <p:nvPr/>
        </p:nvSpPr>
        <p:spPr>
          <a:xfrm>
            <a:off x="684360" y="494172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" descr="bpm-book-weske_079.png"/>
          <p:cNvPicPr/>
          <p:nvPr/>
        </p:nvPicPr>
        <p:blipFill>
          <a:blip r:embed="rId1"/>
          <a:stretch/>
        </p:blipFill>
        <p:spPr>
          <a:xfrm>
            <a:off x="103320" y="1341360"/>
            <a:ext cx="8861400" cy="47307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Xor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A47C-8A12-40E4-8F02-6D21CB66F338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ttangolo 4"/>
          <p:cNvSpPr/>
          <p:nvPr/>
        </p:nvSpPr>
        <p:spPr>
          <a:xfrm>
            <a:off x="755640" y="5445000"/>
            <a:ext cx="7056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9:02:22Z</dcterms:created>
  <dc:creator>Barbara Re</dc:creator>
  <dc:description/>
  <dc:language>en-US</dc:language>
  <cp:lastModifiedBy>Barbara Re</cp:lastModifiedBy>
  <cp:lastPrinted>2013-10-16T07:00:00Z</cp:lastPrinted>
  <dcterms:modified xsi:type="dcterms:W3CDTF">2015-09-19T13:10:22Z</dcterms:modified>
  <cp:revision>214</cp:revision>
  <dc:subject>Lezioni Laboratorio Informatico per i database turistici</dc:subject>
  <dc:title>Presentazione corso</dc:title>
</cp:coreProperties>
</file>